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2.gif" ContentType="image/gif"/>
  <Override PartName="/ppt/media/image18.jpeg" ContentType="image/jpeg"/>
  <Override PartName="/ppt/media/image8.jpeg" ContentType="image/jpeg"/>
  <Override PartName="/ppt/media/image9.png" ContentType="image/png"/>
  <Override PartName="/ppt/media/image7.jpeg" ContentType="image/jpeg"/>
  <Override PartName="/ppt/media/image35.gif" ContentType="image/gif"/>
  <Override PartName="/ppt/media/image31.gif" ContentType="image/gif"/>
  <Override PartName="/ppt/media/image11.jpeg" ContentType="image/jpeg"/>
  <Override PartName="/ppt/media/image30.gif" ContentType="image/gif"/>
  <Override PartName="/ppt/media/image28.gif" ContentType="image/gif"/>
  <Override PartName="/ppt/media/image12.png" ContentType="image/png"/>
  <Override PartName="/ppt/media/image32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33.gif" ContentType="image/gif"/>
  <Override PartName="/ppt/media/image34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17.png" ContentType="image/png"/>
  <Override PartName="/ppt/media/image24.gif" ContentType="image/gif"/>
  <Override PartName="/ppt/media/image2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9B6A-D494-46AD-A8FE-7F3B5CFB13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rite words as many as you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ork in groups, add your vab-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epor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on is kind of big. That lion is very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p8 2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2b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short conversation.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know all of you know many names of animals. But now please see if you know thes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769-89DE-4384-B15C-377E7299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A79-CA1A-4244-97D7-6019F50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03C-28FA-4F80-B0FA-EE77F88E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102-44FF-491E-BF87-AB402957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D80-3B5E-4EB1-A3F6-FDDBE2F4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89A-6A71-4580-98FF-B55FF92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C15-F0F5-4EB3-ADD3-6BD29203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811-E881-4344-A52B-EE7C9AD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105-9FB7-4CC2-93AD-8A628505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F43-D4BB-4D96-AFC6-FC22E78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039-51F7-447A-B656-4DBDB66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6A2-540E-4BBA-B520-98FE4FC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0E09-B90F-4298-A739-4B6A628A23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fjnet.com/zy/zytp/200305280087.htm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2057400"/>
            <a:ext cx="6705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hy do you like koala bear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2286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1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8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5943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56386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15000" y="2362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engu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06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3124080" cy="916920"/>
          </a:xfrm>
          <a:prstGeom prst="rect">
            <a:avLst/>
          </a:prstGeom>
          <a:solidFill>
            <a:srgbClr val="95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038480" y="4724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_26_596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5638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2120"/>
            <a:ext cx="6172200" cy="577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r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bear  [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d 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  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ai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p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fe         [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3885840" y="3121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83808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cbear13%5B1%5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88" name="image20031024_174402_20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7948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09680"/>
            <a:ext cx="8001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word collection </a:t>
            </a:r>
            <a:endParaRPr b="1" lang="en-US" sz="2400" spc="1" strike="noStrike">
              <a:ln w="3240">
                <a:solidFill>
                  <a:srgbClr val="00ccff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pic>
        <p:nvPicPr>
          <p:cNvPr id="90" name="000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807732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943600"/>
            <a:ext cx="3505320" cy="916920"/>
          </a:xfrm>
          <a:prstGeom prst="rect">
            <a:avLst/>
          </a:prstGeom>
          <a:solidFill>
            <a:srgbClr val="1e3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93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94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96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666880"/>
            <a:ext cx="9144000" cy="178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112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113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15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20031024_175002_07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00484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image20031024_175002_07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528720" cy="405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kind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791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a littl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523880"/>
            <a:ext cx="7925040" cy="366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 you like pa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very 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es he like koala b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kind of inter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age20031024_175002_07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676520"/>
            <a:ext cx="5867280" cy="28062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 new words. P7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ing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20031025_075803_16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9429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20031024_175501_36" descr=""/>
          <p:cNvPicPr/>
          <p:nvPr/>
        </p:nvPicPr>
        <p:blipFill>
          <a:blip r:embed="rId3"/>
          <a:stretch/>
        </p:blipFill>
        <p:spPr>
          <a:xfrm>
            <a:off x="7645320" y="380880"/>
            <a:ext cx="81612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image20031024_173101_23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40" name="0013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224000" cy="12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943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b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8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943600"/>
            <a:ext cx="2590920" cy="916920"/>
          </a:xfrm>
          <a:prstGeom prst="rect">
            <a:avLst/>
          </a:prstGeom>
          <a:solidFill>
            <a:srgbClr val="84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280"/>
            <a:ext cx="2743200" cy="916920"/>
          </a:xfrm>
          <a:prstGeom prst="rect">
            <a:avLst/>
          </a:prstGeom>
          <a:solidFill>
            <a:srgbClr val="254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lephan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5943600"/>
            <a:ext cx="2971800" cy="9169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3429000" cy="916920"/>
          </a:xfrm>
          <a:prstGeom prst="rect">
            <a:avLst/>
          </a:prstGeom>
          <a:solidFill>
            <a:srgbClr val="377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86600" y="5851440"/>
            <a:ext cx="2057400" cy="1008360"/>
          </a:xfrm>
          <a:prstGeom prst="rect">
            <a:avLst/>
          </a:prstGeom>
          <a:solidFill>
            <a:srgbClr val="366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6:30:13Z</dcterms:created>
  <dc:creator>Billgates</dc:creator>
  <dc:description/>
  <dc:language>en-US</dc:language>
  <cp:lastModifiedBy>Billgates</cp:lastModifiedBy>
  <dcterms:modified xsi:type="dcterms:W3CDTF">2004-04-20T15:32:58Z</dcterms:modified>
  <cp:revision>7</cp:revision>
  <dc:subject/>
  <dc:title>PowerPoint 演示文稿</dc:title>
</cp:coreProperties>
</file>